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1.xml.rels" ContentType="application/vnd.openxmlformats-package.relationships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29.wmf" ContentType="image/x-wmf"/>
  <Override PartName="/ppt/media/image31.wmf" ContentType="image/x-wmf"/>
  <Override PartName="/ppt/media/image11.png" ContentType="image/png"/>
  <Override PartName="/ppt/media/image17.wmf" ContentType="image/x-wmf"/>
  <Override PartName="/ppt/media/image9.png" ContentType="image/png"/>
  <Override PartName="/ppt/media/image34.wmf" ContentType="image/x-wmf"/>
  <Override PartName="/ppt/media/image14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6.png" ContentType="image/png"/>
  <Override PartName="/ppt/media/image5.png" ContentType="image/png"/>
  <Override PartName="/ppt/media/image15.png" ContentType="image/png"/>
  <Override PartName="/ppt/media/image2.jpeg" ContentType="image/jpeg"/>
  <Override PartName="/ppt/media/image18.wmf" ContentType="image/x-wmf"/>
  <Override PartName="/ppt/media/image20.wmf" ContentType="image/x-wmf"/>
  <Override PartName="/ppt/media/image21.png" ContentType="image/png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3DCA-8436-4BD3-93EB-023FB9CE3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3E92-5B40-4DB5-B44A-1862A589F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6640" y="6793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99640" y="4373640"/>
            <a:ext cx="50389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CC4-11BD-487F-9F94-6927110F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519-9B0E-4038-B785-515BBFAE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590-B3DE-4085-857B-968DEA13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E3A-7A90-4F7B-B7BB-FD15AC56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59D-670E-4C11-92B9-E547A4AD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91F-5D54-4950-BF82-EF62C62A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A1A1-D587-4CFE-8AB2-940B9D7A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517-D02B-427F-B618-A86D545F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C9D-865C-4EDB-962D-2DAAC393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5C5-BF0B-4751-B1A7-AC197011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2977-9E6F-4A21-BEDF-0EBFB402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A3F-37DE-488D-9C63-13E56DF3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C207-6B1E-4449-B559-23D624AA5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etwork_address_translation" TargetMode="External"/><Relationship Id="rId2" Type="http://schemas.openxmlformats.org/officeDocument/2006/relationships/hyperlink" Target="http://en.wikipedia.org/wiki/Classless_Inter-Domain_Routing" TargetMode="External"/><Relationship Id="rId3" Type="http://schemas.openxmlformats.org/officeDocument/2006/relationships/hyperlink" Target="http://tools.ietf.org/html/rfc1918" TargetMode="External"/><Relationship Id="rId4" Type="http://schemas.openxmlformats.org/officeDocument/2006/relationships/hyperlink" Target="http://en.wikipedia.org/wiki/Zeroconf" TargetMode="External"/><Relationship Id="rId5" Type="http://schemas.openxmlformats.org/officeDocument/2006/relationships/hyperlink" Target="http://tools.ietf.org/html/rfc3927" TargetMode="External"/><Relationship Id="rId6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ing protoco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administr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V8030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troductory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urity-oriente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ucial security issues depend on protocol detail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 uses TCP SYN flood,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attacks use spoof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ermeasures and administration requires  detailed understanding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e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ial of servic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ly prevailing attack type: DOS att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 set of attacks intended to </a:t>
            </a:r>
            <a:r>
              <a:rPr b="0" lang="en-US" sz="2400" spc="-1" strike="noStrike">
                <a:solidFill>
                  <a:srgbClr val="ca3000"/>
                </a:solidFill>
                <a:latin typeface="Arial"/>
                <a:ea typeface="굴림"/>
              </a:rPr>
              <a:t>consume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a3000"/>
                </a:solidFill>
                <a:latin typeface="Arial"/>
                <a:ea typeface="굴림"/>
              </a:rPr>
              <a:t>resour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of a remote host or network, thereb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a3000"/>
                </a:solidFill>
                <a:latin typeface="Arial"/>
                <a:ea typeface="굴림"/>
              </a:rPr>
              <a:t>deny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or </a:t>
            </a:r>
            <a:r>
              <a:rPr b="0" lang="en-US" sz="2000" spc="-1" strike="noStrike">
                <a:solidFill>
                  <a:srgbClr val="ca3000"/>
                </a:solidFill>
                <a:latin typeface="Arial"/>
                <a:ea typeface="굴림"/>
              </a:rPr>
              <a:t>degrading serv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o legitimate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us see some excerpts from DOS attack explanations: just for basic 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ack 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굴림"/>
              </a:rPr>
              <a:t>System Attack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a3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Firewall, Router,  Load Balancer, WEB Serve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DB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굴림"/>
              </a:rPr>
              <a:t>Part of the System Attack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twork Card,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, Sto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a3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Operating Syste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, 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TCP/IP St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굴림"/>
              </a:rPr>
              <a:t>Bug or Overlo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a3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Bugs, Configuration Err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S attack tax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fig1"/>
          <p:cNvPicPr/>
          <p:nvPr/>
        </p:nvPicPr>
        <p:blipFill>
          <a:blip r:embed="rId1"/>
          <a:stretch/>
        </p:blipFill>
        <p:spPr>
          <a:xfrm>
            <a:off x="642960" y="1643040"/>
            <a:ext cx="71438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ding DOS atta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" descr="Fig2-new"/>
          <p:cNvPicPr/>
          <p:nvPr/>
        </p:nvPicPr>
        <p:blipFill>
          <a:blip r:embed="rId1"/>
          <a:stretch/>
        </p:blipFill>
        <p:spPr>
          <a:xfrm>
            <a:off x="214200" y="1785960"/>
            <a:ext cx="83091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N attack: based on TC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Recent experiments shown th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YN attacks with rate of only 500 SYN packets per second are enough strong to overwhelm a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Even a specialized firewall, which is designed to resist SYN floods, becomes futile under a flood of 14,000 packets per seco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YN st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Graph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50% of attacks are less than 10 minu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80% are less than 30 minu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90% last less than an ho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Most of the DoS attacks are not likely last lo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Duration in interval 3- 30 minu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N attack idea (TCP-bas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SYN Flo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Using the </a:t>
            </a:r>
            <a:r>
              <a:rPr b="0" lang="en-US" sz="2400" spc="-1" strike="noStrike">
                <a:solidFill>
                  <a:srgbClr val="0066ff"/>
                </a:solidFill>
                <a:latin typeface="Calibri"/>
                <a:ea typeface="굴림"/>
              </a:rPr>
              <a:t>Three-way handshak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mechanism of TC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During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75 seconds of half-open st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Limited number of half-open connections per port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maintained by Memory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backlo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que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As long as backlog queue limit is reached,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discard new connection reques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from any cl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Usually SYN packet has spoofed source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A victim server never receives the final ACK packe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Keep waiting until the time’s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MURF attack idea (ICMP-bas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Smur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Using a forged </a:t>
            </a:r>
            <a:r>
              <a:rPr b="0" lang="en-US" sz="2400" spc="-1" strike="noStrike">
                <a:solidFill>
                  <a:srgbClr val="0066ff"/>
                </a:solidFill>
                <a:latin typeface="Calibri"/>
                <a:ea typeface="굴림"/>
              </a:rPr>
              <a:t>ICMP Echo Request pack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Three parties :  A attacker, Intermediary, A victi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Setting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source addre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by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targeting machine addre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ICMP type fiel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as “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”, and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broadca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to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intermediary net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After receiving a redirected ICMP Echo Request, each machine of the Intermediary will send ICMP Echo reply by setting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type field “0” to the vict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Intermediary also experience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unintended heavy traff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ARDROP idea (IP fragmenta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Teardr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Using a </a:t>
            </a:r>
            <a:r>
              <a:rPr b="0" lang="en-US" sz="2400" spc="-1" strike="noStrike">
                <a:solidFill>
                  <a:srgbClr val="0066ff"/>
                </a:solidFill>
                <a:latin typeface="Calibri"/>
                <a:ea typeface="굴림"/>
              </a:rPr>
              <a:t>IP fragmentation mech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If there is too large packet to be handled by next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router, then divide into frag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Each fragment will be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identified by offs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w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eds to be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re-assem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Attacker put some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confusing offset val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i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second or later frag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=&gt; If the receiving </a:t>
            </a:r>
            <a:r>
              <a:rPr b="0" lang="en-US" sz="2400" spc="-1" strike="noStrike">
                <a:solidFill>
                  <a:srgbClr val="ca3000"/>
                </a:solidFill>
                <a:latin typeface="Calibri"/>
                <a:ea typeface="굴림"/>
              </a:rPr>
              <a:t>O.S. doesn’t have pl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for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situation, it cause the system to cra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minor effect, a </a:t>
            </a:r>
            <a:r>
              <a:rPr b="0" lang="en-US" sz="2400" spc="-1" strike="noStrike">
                <a:solidFill>
                  <a:srgbClr val="0066ff"/>
                </a:solidFill>
                <a:latin typeface="Calibri"/>
                <a:ea typeface="굴림"/>
              </a:rPr>
              <a:t>simple reboot will recover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 lecture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oals of the course, materials, et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fence motivation: brief overview of 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fresher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tocol lay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O-OSI general protocol stac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 protocol stac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net address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y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erved and special addr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te networ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ne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D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d control packets (routin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Bad control pa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 malicious router generates a sequence of bad control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Control packets are ordered according to the SN such that one is “fresher” than another and thus is formed a cyc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Because control packets receive a higher priority than data packets, routers spent more of their time handling these routing upda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ack holes (routin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Black Ho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Routers exchange control packets to reflect changes, such as topology changes in the networ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 Black Hole router sends out routing updates claiming that it is on a zero-cost (or low cost) path to all destin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Black Hole router drops the packets that receive from its neighb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resher: networking lev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cations: http, ftp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ing addresses: D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ng channel, using ports: TCP, U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ding and routing packets: IP, ICMP, ARP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network: typically eth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cols/lay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des from Stall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in comm layering id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rcRect l="0" t="0" r="0" b="23071"/>
          <a:stretch/>
        </p:blipFill>
        <p:spPr>
          <a:xfrm>
            <a:off x="214200" y="2643120"/>
            <a:ext cx="87012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ckets and header lay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rcRect l="0" t="0" r="0" b="20507"/>
          <a:stretch/>
        </p:blipFill>
        <p:spPr>
          <a:xfrm>
            <a:off x="228600" y="2211480"/>
            <a:ext cx="89154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col layers add hea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rcRect l="0" t="0" r="0" b="13127"/>
          <a:stretch/>
        </p:blipFill>
        <p:spPr>
          <a:xfrm>
            <a:off x="214200" y="1571760"/>
            <a:ext cx="86997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I lay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Content Placeholder 3" descr=""/>
          <p:cNvPicPr/>
          <p:nvPr/>
        </p:nvPicPr>
        <p:blipFill>
          <a:blip r:embed="rId1"/>
          <a:srcRect l="0" t="0" r="0" b="8634"/>
          <a:stretch/>
        </p:blipFill>
        <p:spPr>
          <a:xfrm>
            <a:off x="285840" y="357120"/>
            <a:ext cx="37861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I layers/hea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0" t="0" r="0" b="5070"/>
          <a:stretch/>
        </p:blipFill>
        <p:spPr>
          <a:xfrm>
            <a:off x="685800" y="1523880"/>
            <a:ext cx="73152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lay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net layers are not exactly like ISO-OSI lay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st of the ISO-OSI layers are missing or merg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rmal internet  layers with three heade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w data using application-specific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CP or UDP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ader (ports and contro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eader  (addres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thernet fram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ader  and  trailer (local network, not wide-are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lides from CIS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s of the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core internet standards/protoco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, U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MP, ARP, DHCP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how crucial methods work: routing, NAT,  firewalls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some network adminis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and Future of TCP/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964880"/>
            <a:ext cx="434484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U.S. Department of Defense (DoD) created the TCP/IP reference model because it wanted a network that could survive any condi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of the layers in the TCP/IP model have the same name as layers in the OSI mode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4892760" y="1371600"/>
            <a:ext cx="3537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 Lay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high-level protocols, issues of representation, encoding, and dialog contr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CP/IP protocol suite combines all application related issues into one layer an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es this data is properly packaged before passing it on to the next lay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Application Layer Examp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1676520" y="1376280"/>
            <a:ext cx="594360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 Lay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ve basic servic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gmenting upper-layer application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tablishing end-to-end oper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ding segments from one end host to another end h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suring data reli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ing flow cont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 Layer Protoc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1143000" y="1440000"/>
            <a:ext cx="739152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Lay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990720" y="2678040"/>
            <a:ext cx="7458120" cy="38750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762120" y="1371600"/>
            <a:ext cx="79246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urpose of the Internet layer is to send packets from a network node and have them arrive at the destination node independent of the path take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 Access Lay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760" y="1295280"/>
            <a:ext cx="82310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network access layer is concerned with all of the issues that an IP packet requires to actually make a physical link to the network med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includes the LAN and WAN technology details, and all the details contained in the OSI physical and data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nk layers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828800" y="3673440"/>
            <a:ext cx="56386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ng the OSI Model and TCP/IP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3059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ities of the OSI and TCP/IP Mode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24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have layer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have application layers, though they include very different servic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have comparable transport and network layer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et-switched, not circuit-switched, technology is assumed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working professionals need to know both model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ces of the OSI and TCP/IP Mode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24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CP/IP combines the presentation and session layer into its application lay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CP/IP combines the OSI data link and physical layers into one lay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CP/IP appears simpler because it has fewer layer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CP/IP transport layer using UDP does not always guarantee reliable delivery of packets as the transport layer in the OSI model do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in the course s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 physics: frequencies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lying low-level comms: ATM, Wifi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per-level application protocols: http, ftp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pt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ual def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omputers, anywhere in the world, following certain hardware, software, protocol specifications, can communicate, reliably even when not directly connec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s are no longer scalable beyond a certain number of stations or geographic separ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re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kinds of addresses are used in the normal internet activ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C addres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"ethernet card address", like 01:23:45:67:89:a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 by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in a local 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P addr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(like 234.14.189.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 bytes for IPv4, sixteen bytes for IPv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for actual routing of packets worldw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pped to MAC address by ARP and RARP services in local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st n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like www.ttu.ee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used for actual routing of pac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pped to IP address by the worldwide DNS server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addr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ic internet address and related issu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-byte inte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ry machine on the internet must have a unique address to which packets are s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 addresses of a machine may change (f.ex. DHC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uting is a complex problem, tables grow b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ry machine has ports (two-byte integer) to which applications are conn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-byte addresses are not enou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 address translation (NAT) may map/change addresses when packet is entering a local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ing slides and materials fro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v of Virginia / Univ of Toro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SC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kip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other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760" y="1447920"/>
            <a:ext cx="82245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IP address is a 32-bit sequence of 1s and 0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make the IP address easier to use, the address is usually written as four decimal numbers separated by period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way of writing the address is called the dotted decimal forma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rcRect l="0" t="13338" r="0" b="24536"/>
          <a:stretch/>
        </p:blipFill>
        <p:spPr>
          <a:xfrm>
            <a:off x="152280" y="4495680"/>
            <a:ext cx="8839440" cy="1067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266760" y="5562720"/>
            <a:ext cx="861048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es in packe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457200" y="5310360"/>
          <a:ext cx="846756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10360"/>
                    <a:ext cx="846756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Line 4"/>
          <p:cNvSpPr/>
          <p:nvPr/>
        </p:nvSpPr>
        <p:spPr>
          <a:xfrm>
            <a:off x="1676520" y="419112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 flipH="1">
            <a:off x="3276720" y="4191120"/>
            <a:ext cx="49528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3"/>
          <p:cNvGraphicFramePr/>
          <p:nvPr/>
        </p:nvGraphicFramePr>
        <p:xfrm>
          <a:off x="380880" y="1704960"/>
          <a:ext cx="8467920" cy="27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704960"/>
                    <a:ext cx="846792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e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57200" y="5310360"/>
          <a:ext cx="846756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10360"/>
                    <a:ext cx="846756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4"/>
          <p:cNvSpPr/>
          <p:nvPr/>
        </p:nvSpPr>
        <p:spPr>
          <a:xfrm>
            <a:off x="1676520" y="419112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 flipH="1">
            <a:off x="3276720" y="4191120"/>
            <a:ext cx="49528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3"/>
          <p:cNvGraphicFramePr/>
          <p:nvPr/>
        </p:nvGraphicFramePr>
        <p:xfrm>
          <a:off x="380880" y="1704960"/>
          <a:ext cx="8467920" cy="27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704960"/>
                    <a:ext cx="846792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es contain two p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760" y="1214280"/>
            <a:ext cx="822456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-byte IP address contains two part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ddress (routers know how to send packet to that networ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st number (only local router knows how to send data inside local networ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ree historic phases for hierachy organis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fixed-length parts (very early):  byte 1 (8 bits)  for network, bytes 2-4 (24 bits) for h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xed types  (A, B, C, D, E) of network addr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le selection of network address and local address parts  (since 199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500120" y="3357720"/>
            <a:ext cx="3048120" cy="5331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twork 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572000" y="3357720"/>
            <a:ext cx="3048120" cy="53316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997a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0504d"/>
              </a:buClr>
              <a:buFont typeface="Arial"/>
              <a:buChar char="•"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Exampl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ellington.cs.virginia.ed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twork address is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128.143.0.0 (or 128.143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st number is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137.14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tmask is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255.255.0.0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or   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ffff000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efix or CIDR notation: </a:t>
            </a:r>
            <a:r>
              <a:rPr b="1" lang="en-US" sz="2500" spc="-1" strike="noStrike">
                <a:solidFill>
                  <a:srgbClr val="ff0000"/>
                </a:solidFill>
                <a:latin typeface="Courier New"/>
              </a:rPr>
              <a:t>128.143.137.144/1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26232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 prefix  is 16 bits lo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523880" y="2209680"/>
            <a:ext cx="3048120" cy="5335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8.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572000" y="2209680"/>
            <a:ext cx="3048120" cy="5335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997a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37.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Straight Arrow Connector 6"/>
          <p:cNvCxnSpPr/>
          <p:nvPr/>
        </p:nvCxnSpPr>
        <p:spPr>
          <a:xfrm flipV="1">
            <a:off x="5929200" y="5285520"/>
            <a:ext cx="1215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C08E-0850-42BD-B5C8-D6E206F4E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two parts? For rout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uters must select next hop for pack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t route information from other routers via a routing protocol (RIP, OSPF, EIGRP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ore routing information in a tabl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e simplest form,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ach network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s one entry in the t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 the following are non-routabl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vate networks: 10.0.0.0/8, 172.16.0.0/12, 192.168.0.0/1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opback 127.0.0.0/24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ing up: using two address par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xt we will cover these addressing issu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ld-style address splitting: A, B, C, D, E clas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ecial and reserved addres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vate addres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bnetting:  host number may again be split into (local) subnet and host number in this subn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dern address splitting: CIDR (classless interdomain rout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ief intro to IPv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reates internet standar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cation level (not in course scop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3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software vend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et level (data transmission, this cou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ETF (internet engineering task for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Architecture Board (IAB), IASA, IRTF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router vend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ive organisations (IANA, RIPE, 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Address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80880" y="426708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Object 2"/>
          <p:cNvGraphicFramePr/>
          <p:nvPr/>
        </p:nvGraphicFramePr>
        <p:xfrm>
          <a:off x="152280" y="1752480"/>
          <a:ext cx="882036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88203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80880" y="426708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2"/>
          <p:cNvGraphicFramePr/>
          <p:nvPr/>
        </p:nvGraphicFramePr>
        <p:xfrm>
          <a:off x="0" y="1523880"/>
          <a:ext cx="8823240" cy="26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8823240" cy="26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Address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has A,B,C address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cla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ANA, APNIC, RIPE, legacy (US military, Xerox, IBM, Apple, Ford, ...). See http://www.iana.org/assignments/ipv4-address-space for the full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 cla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organisations with clear need (more than 32 subnets, more than 4096 hosts): very hard to 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 cla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ll others, assigned hierarchically. Lower half of space divided regionall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92.0.0 - 193.255.255 Multi-region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94.0.0 - 195.255.255 Euro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96.0.0 - 197.255.255 Oth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98.0.0 - 199.255.255 North Amer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.0.0 - 201.255.255 Central and South Amer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2.0.0 - 203.255.255 Pacific Ri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4.0.0 - 205.255.255 Oth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6.0.0 - 207.255.255 Oth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8.0.0 - 209.255.255 ARIN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10.0.0 - 211.255.255 APN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B056-F75F-4CB1-BE87-7538A6B1532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Class 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0" name="Object 2"/>
          <p:cNvGraphicFramePr/>
          <p:nvPr/>
        </p:nvGraphicFramePr>
        <p:xfrm>
          <a:off x="380880" y="4495680"/>
          <a:ext cx="8229600" cy="21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495680"/>
                    <a:ext cx="8229600" cy="2132280"/>
                  </a:xfrm>
                  <a:prstGeom prst="rect">
                    <a:avLst/>
                  </a:prstGeom>
                  <a:ln w="9360">
                    <a:solidFill>
                      <a:srgbClr val="00808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2" name="Group 17"/>
          <p:cNvGrpSpPr/>
          <p:nvPr/>
        </p:nvGrpSpPr>
        <p:grpSpPr>
          <a:xfrm>
            <a:off x="0" y="609480"/>
            <a:ext cx="8915040" cy="1828800"/>
            <a:chOff x="0" y="609480"/>
            <a:chExt cx="8915040" cy="1828800"/>
          </a:xfrm>
        </p:grpSpPr>
        <p:grpSp>
          <p:nvGrpSpPr>
            <p:cNvPr id="263" name="Group 9"/>
            <p:cNvGrpSpPr/>
            <p:nvPr/>
          </p:nvGrpSpPr>
          <p:grpSpPr>
            <a:xfrm>
              <a:off x="3581280" y="609480"/>
              <a:ext cx="5333760" cy="1828800"/>
              <a:chOff x="3581280" y="609480"/>
              <a:chExt cx="5333760" cy="1828800"/>
            </a:xfrm>
          </p:grpSpPr>
          <p:graphicFrame>
            <p:nvGraphicFramePr>
              <p:cNvPr id="264" name="Object 5"/>
              <p:cNvGraphicFramePr/>
              <p:nvPr/>
            </p:nvGraphicFramePr>
            <p:xfrm>
              <a:off x="3609720" y="609480"/>
              <a:ext cx="5267520" cy="609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65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609720" y="609480"/>
                        <a:ext cx="5267520" cy="609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6" name="Object 6"/>
              <p:cNvGraphicFramePr/>
              <p:nvPr/>
            </p:nvGraphicFramePr>
            <p:xfrm>
              <a:off x="3600360" y="1218960"/>
              <a:ext cx="5276880" cy="6192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67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600360" y="1218960"/>
                        <a:ext cx="527688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8" name="Object 7"/>
              <p:cNvGraphicFramePr/>
              <p:nvPr/>
            </p:nvGraphicFramePr>
            <p:xfrm>
              <a:off x="3581280" y="1836360"/>
              <a:ext cx="5295960" cy="573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69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581280" y="1836360"/>
                        <a:ext cx="5295960" cy="5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0" name="Rectangle 8"/>
              <p:cNvSpPr/>
              <p:nvPr/>
            </p:nvSpPr>
            <p:spPr>
              <a:xfrm>
                <a:off x="3581280" y="609480"/>
                <a:ext cx="5333760" cy="1828800"/>
              </a:xfrm>
              <a:prstGeom prst="rect">
                <a:avLst/>
              </a:prstGeom>
              <a:noFill/>
              <a:ln w="381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Text Box 10"/>
            <p:cNvSpPr/>
            <p:nvPr/>
          </p:nvSpPr>
          <p:spPr>
            <a:xfrm>
              <a:off x="0" y="1143000"/>
              <a:ext cx="365760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P addresses are divided into classes A,B and C to define large, medium, and small network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1"/>
          <p:cNvGrpSpPr/>
          <p:nvPr/>
        </p:nvGrpSpPr>
        <p:grpSpPr>
          <a:xfrm>
            <a:off x="0" y="2514600"/>
            <a:ext cx="8915040" cy="1676520"/>
            <a:chOff x="0" y="2514600"/>
            <a:chExt cx="8915040" cy="1676520"/>
          </a:xfrm>
        </p:grpSpPr>
        <p:grpSp>
          <p:nvGrpSpPr>
            <p:cNvPr id="273" name="Group 16"/>
            <p:cNvGrpSpPr/>
            <p:nvPr/>
          </p:nvGrpSpPr>
          <p:grpSpPr>
            <a:xfrm>
              <a:off x="3581280" y="2743200"/>
              <a:ext cx="5333760" cy="1447920"/>
              <a:chOff x="3581280" y="2743200"/>
              <a:chExt cx="5333760" cy="1447920"/>
            </a:xfrm>
          </p:grpSpPr>
          <p:graphicFrame>
            <p:nvGraphicFramePr>
              <p:cNvPr id="274" name="Object 3"/>
              <p:cNvGraphicFramePr/>
              <p:nvPr/>
            </p:nvGraphicFramePr>
            <p:xfrm>
              <a:off x="3581280" y="2743200"/>
              <a:ext cx="5333760" cy="714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75" name="Object 3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581280" y="2743200"/>
                        <a:ext cx="5333760" cy="71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6" name="Object 4"/>
              <p:cNvGraphicFramePr/>
              <p:nvPr/>
            </p:nvGraphicFramePr>
            <p:xfrm>
              <a:off x="3581280" y="3429000"/>
              <a:ext cx="5324400" cy="7333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77" name="Object 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581280" y="3429000"/>
                        <a:ext cx="5324400" cy="733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8" name="Rectangle 14"/>
              <p:cNvSpPr/>
              <p:nvPr/>
            </p:nvSpPr>
            <p:spPr>
              <a:xfrm>
                <a:off x="3581280" y="2743200"/>
                <a:ext cx="5295600" cy="1447920"/>
              </a:xfrm>
              <a:prstGeom prst="rect">
                <a:avLst/>
              </a:prstGeom>
              <a:noFill/>
              <a:ln w="381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Rectangle 18"/>
            <p:cNvSpPr/>
            <p:nvPr/>
          </p:nvSpPr>
          <p:spPr>
            <a:xfrm>
              <a:off x="0" y="2514600"/>
              <a:ext cx="3505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 Class D address class was created to enable multicastin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0"/>
            <p:cNvSpPr/>
            <p:nvPr/>
          </p:nvSpPr>
          <p:spPr>
            <a:xfrm>
              <a:off x="0" y="3505320"/>
              <a:ext cx="3276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ETF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rves Class E addresses for its own research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al IP adr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760" y="1071360"/>
            <a:ext cx="83311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back interfaces  (packet sent back to sen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addresses   127.0.0.1   -  127.255.255.2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systems use 127.0.0.1 as loopback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pback interface is associated with name “localhos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st / Experimental addres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rtain address ranges are reserved for “experimental use”. Packets should get dropped if they contain this destination address (see RFC 3330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8.0.0.0-128.0.255.25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91.255.0.0-191.255.25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92.0.0.0-192.0.0.25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92.0.2.0-192.0.2.25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23.255.255.0-223.255.255.25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40.0.0.0-240.0.0.25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2003400"/>
                <a:tab algn="l" pos="2967120"/>
                <a:tab algn="l" pos="36021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rved IP Address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6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rtain host addresses are reserved and cannot be assigned to devices on a networ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P address that has binary 0s in all host bit positions is reserved for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twork addres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P address that has binary 1s in all host bit positions is reserved for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oadcast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5" descr=""/>
          <p:cNvPicPr/>
          <p:nvPr/>
        </p:nvPicPr>
        <p:blipFill>
          <a:blip r:embed="rId1"/>
          <a:stretch/>
        </p:blipFill>
        <p:spPr>
          <a:xfrm>
            <a:off x="4552920" y="2714760"/>
            <a:ext cx="4591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rved as private addr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0040" y="1428480"/>
            <a:ext cx="80726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ranges are not routable outside of private networks, and private machines cannot directly communicate with public networks. They can, however, do so through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network address transl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NAT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me                  IP address range                        number  of IPs  largest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IDR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l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-bit block        10.0.0.0 – 10.255.255.255       16,777,216         10.0.0.0/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-bit block   172.16.0.0 – 172.31.255.255          1,048,576       172.16.0.0/1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-bit block   169.254.0.0 – 169.254.255.255    65,536 256      169.254.0.0/1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-bit block   192.168.0.0 – 192.168.255.255    65,536 256      192.168.0.0/1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anges 10.0.0.0/8, 172.16.0.0/12, and 192.168.0.0/16 are reserved for private networking by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RFC 191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169.254.0.0/16 range is reserved for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Link-Loc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ddressing as defined i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RFC 3927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304920" y="4876920"/>
            <a:ext cx="7753320" cy="1218960"/>
            <a:chOff x="304920" y="4876920"/>
            <a:chExt cx="7753320" cy="1218960"/>
          </a:xfrm>
        </p:grpSpPr>
        <p:grpSp>
          <p:nvGrpSpPr>
            <p:cNvPr id="289" name="Group 3"/>
            <p:cNvGrpSpPr/>
            <p:nvPr/>
          </p:nvGrpSpPr>
          <p:grpSpPr>
            <a:xfrm>
              <a:off x="304920" y="4876920"/>
              <a:ext cx="5562360" cy="1218960"/>
              <a:chOff x="304920" y="4876920"/>
              <a:chExt cx="5562360" cy="1218960"/>
            </a:xfrm>
          </p:grpSpPr>
          <p:sp>
            <p:nvSpPr>
              <p:cNvPr id="290" name="Rectangle 4"/>
              <p:cNvSpPr/>
              <p:nvPr/>
            </p:nvSpPr>
            <p:spPr>
              <a:xfrm>
                <a:off x="304920" y="4876920"/>
                <a:ext cx="4267080" cy="12189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AutoShape 5"/>
              <p:cNvSpPr/>
              <p:nvPr/>
            </p:nvSpPr>
            <p:spPr>
              <a:xfrm>
                <a:off x="4724280" y="5486040"/>
                <a:ext cx="1143000" cy="228240"/>
              </a:xfrm>
              <a:prstGeom prst="rightArrow">
                <a:avLst>
                  <a:gd name="adj1" fmla="val 50000"/>
                  <a:gd name="adj2" fmla="val 12519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6"/>
            <p:cNvSpPr/>
            <p:nvPr/>
          </p:nvSpPr>
          <p:spPr>
            <a:xfrm>
              <a:off x="6000840" y="542916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ubnet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n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1428840"/>
                <a:tab algn="l" pos="2514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blem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rganizations have multiple networks which are independently manag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85760"/>
                <a:tab algn="l" pos="1428840"/>
                <a:tab algn="l" pos="2514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lution 1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locate a separate network address for each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1428840"/>
                <a:tab algn="l" pos="2514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icult to ma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1428840"/>
                <a:tab algn="l" pos="2514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the outside of the organization, each network must be address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85760"/>
                <a:tab algn="l" pos="1428840"/>
                <a:tab algn="l" pos="2514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lution 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dd another level of hierarchy to the IP addressing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85760"/>
                <a:tab algn="l" pos="1428840"/>
                <a:tab algn="l" pos="2514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4343400" y="1371600"/>
            <a:ext cx="4572000" cy="3124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6705720" y="2362320"/>
            <a:ext cx="1904760" cy="9903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cc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5791320" y="3276720"/>
            <a:ext cx="1904760" cy="9903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cc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2"/>
          <p:cNvSpPr/>
          <p:nvPr/>
        </p:nvSpPr>
        <p:spPr>
          <a:xfrm>
            <a:off x="4495680" y="2286000"/>
            <a:ext cx="1905120" cy="99072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cc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art of the organization is allocated a range of IP addresses (subnets or subnetwork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es in each subnet can be administered lo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 assignment with subne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2666880" y="2666880"/>
            <a:ext cx="4572000" cy="3124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5029200" y="3657600"/>
            <a:ext cx="1905120" cy="99072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cc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4114800" y="4572000"/>
            <a:ext cx="1905120" cy="99072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cc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0"/>
          <p:cNvSpPr/>
          <p:nvPr/>
        </p:nvSpPr>
        <p:spPr>
          <a:xfrm>
            <a:off x="2819520" y="3581280"/>
            <a:ext cx="1904760" cy="99072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cc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4038480" y="2819520"/>
            <a:ext cx="167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8.14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428760" y="3714840"/>
            <a:ext cx="2057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8.143.71.0/2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8.143.136.0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7086600" y="33577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8.143.56.0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5643720" y="585792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8.143.121.0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Idea of Subn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lit the host number portion of an IP address into a </a:t>
            </a:r>
            <a:r>
              <a:rPr b="1" lang="en-US" sz="2400" spc="-1" strike="noStrike">
                <a:solidFill>
                  <a:srgbClr val="c0504d"/>
                </a:solidFill>
                <a:latin typeface="Courier New"/>
              </a:rPr>
              <a:t>subnet numb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a (smaller) </a:t>
            </a:r>
            <a:r>
              <a:rPr b="1" lang="en-US" sz="2400" spc="-1" strike="noStrike">
                <a:solidFill>
                  <a:srgbClr val="c0504d"/>
                </a:solidFill>
                <a:latin typeface="Courier New"/>
              </a:rPr>
              <a:t>host number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 is a 3-layer hierarc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n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nets can be freely assigned within the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ly, subnets are treated as separate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2860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net structure is not visible outside the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1295280" y="2666880"/>
            <a:ext cx="3048120" cy="5335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twork 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4419720" y="2666880"/>
            <a:ext cx="4190760" cy="5335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997a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4419720" y="3809880"/>
            <a:ext cx="20574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ne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1295280" y="3809880"/>
            <a:ext cx="3048120" cy="5335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twork 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6553080" y="3809880"/>
            <a:ext cx="2057400" cy="5335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997a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s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 flipH="1">
            <a:off x="5866920" y="3276720"/>
            <a:ext cx="68580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0"/>
          <p:cNvSpPr/>
          <p:nvPr/>
        </p:nvSpPr>
        <p:spPr>
          <a:xfrm>
            <a:off x="6553080" y="3276720"/>
            <a:ext cx="68580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1"/>
          <p:cNvSpPr/>
          <p:nvPr/>
        </p:nvSpPr>
        <p:spPr>
          <a:xfrm>
            <a:off x="1295280" y="4495680"/>
            <a:ext cx="5181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1981080" y="44956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ed network pre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organ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ctica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ailed plan of lectures and labs will be created/tuned during the course, depending 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ground of stu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 of grasping the princi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ess of la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51920" y="13712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ers and hosts use a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xtended network prefi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ubnetmask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identify the start of the host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netm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2"/>
          <p:cNvGraphicFramePr/>
          <p:nvPr/>
        </p:nvGraphicFramePr>
        <p:xfrm>
          <a:off x="2214720" y="2357280"/>
          <a:ext cx="588636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357280"/>
                    <a:ext cx="5886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antages of Subnett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ith subnetting, IP addresses use a 3-layer hierarchy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twork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n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duces router complexity. Since external routers do not know about subnetting, the complexity of routing tables at external routers is reduc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te: Length of the subnet mask need not be identical at all subnetwork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Subnetm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8.143.0.0/16 is the IP address of the 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8.143.137.0/24 is the IP address of the sub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8.143.137.144  is the IP address of the h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5.255.255.0 (or ffffff00) is the subnetmask of the h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subnetting is used, one generally speaks of a “subnetmask” (instead of a netmask) and a “subnet” (instead of a networ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of subnetting or length of the subnetmask if decided by the network administ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stency of subnetmasks is responsibility of administ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Subn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hosts think that the other hosts are on the same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2"/>
          <p:cNvGraphicFramePr/>
          <p:nvPr/>
        </p:nvGraphicFramePr>
        <p:xfrm>
          <a:off x="609480" y="2743200"/>
          <a:ext cx="7848720" cy="26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43200"/>
                    <a:ext cx="784872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Object 2"/>
          <p:cNvGraphicFramePr/>
          <p:nvPr/>
        </p:nvGraphicFramePr>
        <p:xfrm>
          <a:off x="609480" y="2743200"/>
          <a:ext cx="7953480" cy="27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43200"/>
                    <a:ext cx="79534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Subn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sts with same extended network prefix belong to the same network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subnetmasks lead to different views of the size of the scope of the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1" name="Object 2"/>
          <p:cNvGraphicFramePr/>
          <p:nvPr/>
        </p:nvGraphicFramePr>
        <p:xfrm>
          <a:off x="609480" y="2666880"/>
          <a:ext cx="8218440" cy="27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66880"/>
                    <a:ext cx="8218440" cy="27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Subn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lems with Classful IP Addre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early 1990s, the original classful address scheme had a number of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Flat address space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uting tables on the backbone Internet need to have an entry for each network address. When Class C networks were widely used, this created a problem. By the 1993, the size of the routing tables started to outgrow the capacity of rou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Other problem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Too few network addresses for large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 A and Class B addresses were g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Limited flexibility for network address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 A and B addresses are overkill (&gt;64,000 address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 C address is insufficient (requires 40 Class C address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ocation of Classful Addr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3" descr="ipadf1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52280" y="1523880"/>
            <a:ext cx="8763120" cy="4589640"/>
          </a:xfrm>
          <a:prstGeom prst="rect">
            <a:avLst/>
          </a:prstGeom>
          <a:ln w="0">
            <a:noFill/>
          </a:ln>
        </p:spPr>
      </p:pic>
      <p:sp>
        <p:nvSpPr>
          <p:cNvPr id="351" name="Line 4"/>
          <p:cNvSpPr/>
          <p:nvPr/>
        </p:nvSpPr>
        <p:spPr>
          <a:xfrm>
            <a:off x="1752480" y="198108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5"/>
          <p:cNvSpPr/>
          <p:nvPr/>
        </p:nvSpPr>
        <p:spPr>
          <a:xfrm flipH="1">
            <a:off x="1752120" y="5029200"/>
            <a:ext cx="4496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IDR - Classless Interdomain Rou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P backbone routers have one routing table entry for each network addres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 subnetting, a backbone router only needs to know one entry for each Class A, B, or C networ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is acceptable for Class A and Class B networ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ff0000"/>
                </a:solidFill>
                <a:latin typeface="Calibri"/>
              </a:rPr>
              <a:t>7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= 128 Class A network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ff0000"/>
                </a:solidFill>
                <a:latin typeface="Calibri"/>
              </a:rPr>
              <a:t>14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= 16,384 Class B networ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But this is not acceptable for Class C networ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ff0000"/>
                </a:solidFill>
                <a:latin typeface="Calibri"/>
              </a:rPr>
              <a:t>21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=  2,097,152 Class C networ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1993, the size of the routing tables started to outgrow the capacity of rout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equence: The Class-based assignment of IP addresses had to be abandoned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IDR - Classless Interdomain Rou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oal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interpretation of the IP address spa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ructure IP address assignments to increase effici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its route aggregation to minimize route table en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CIDR (Classless Interdomain routing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andons the notion of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y Concep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The length of the network prefix in the IP addresses is kept arbitr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Consequenc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ize of the network prefix must be provided with an IP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assum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ed a wide-scope networking course (f.ex based on Stalling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ed a mid-level programming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ed system administration course (Käärame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ly recommended: passed a C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DR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DR notation of an IP addres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192.0.2.0/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18" is the prefix length. It states that the first 18 bits are the network prefix of the address (and 14 bits are available for specific host address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DR notation can replace the use of subnetmasks (but is more gener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P address 128.143.137.144 and subnetmask 255.255.255.0 becomes 128.143.137.144/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DR notation allows to drop trailing zeros of network addres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192.0.2.0/18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192.0.2/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do people still talk ab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DR eliminates the concept of class A, B, and C networks and replaces it with a network pref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isting classful network addresses are converted to CIDR address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128.143.0.0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128.143.0.0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hange has not affected many (previously existing) enterprise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y network administrators (especially on university campuses) have not noticed the  change (and still talk about classes A,B,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Note: CIDR was introduced with the role-out of BGPv4 as interdomain routing protocol.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DR address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DR notation can nicely express blocks of addr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cks are used when allocating IP addresses for a company and for routing tables (route aggreg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504d"/>
                </a:solidFill>
                <a:latin typeface="Calibri"/>
              </a:rPr>
              <a:t>CIDR Block Prefix                # of Host Addres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27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26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25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24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23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22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,02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21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,04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20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,09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19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8,19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18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6,38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17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2,76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16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5,5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15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31,07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14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62,14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480060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/13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24,28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DR and Address assign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ckbone ISPs obtain large block of IP addresses space and then reallocate portions of their address blocks to their customer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504d"/>
                </a:solidFill>
                <a:latin typeface="Calibri"/>
              </a:rPr>
              <a:t>Exampl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 that an ISP owns the address block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206.0.64.0/1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represents 16,384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IP addres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se a client requires 800 host addr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classful addresses: need to assign a class B address (and waste ~64,700 addresses)  or four individual Class Cs (and introducing 4 new routes into the global Internet routing tab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CIDR: Assign a /22 block, e.g., 206.0.68.0/22, and allocated a block of 1,024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IP addres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DR and Rou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504d"/>
                </a:solidFill>
                <a:latin typeface="Calibri"/>
              </a:rPr>
              <a:t>Aggregation</a:t>
            </a:r>
            <a:r>
              <a:rPr b="0" lang="en-US" sz="2200" spc="-1" strike="noStrike">
                <a:solidFill>
                  <a:srgbClr val="c0504d"/>
                </a:solidFill>
                <a:latin typeface="Calibri"/>
              </a:rPr>
              <a:t> of routing table entri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8.143.0.0/16 and 128.144.0.0/16 are represented as 128.142.0.0/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504d"/>
                </a:solidFill>
                <a:latin typeface="Calibri"/>
              </a:rPr>
              <a:t>Longest prefix match</a:t>
            </a:r>
            <a:r>
              <a:rPr b="0" lang="en-US" sz="2200" spc="-1" strike="noStrike">
                <a:solidFill>
                  <a:srgbClr val="c0504d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Routing table lookup finds the routing entry that matches the longest pref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the outgoing interface f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8.143.137.0/24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ute aggregation can be exploit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IP address blocks are assign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an hierarchical fash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857840" y="3429000"/>
          <a:ext cx="3962160" cy="1981080"/>
        </p:xfrm>
        <a:graphic>
          <a:graphicData uri="http://schemas.openxmlformats.org/drawingml/2006/table">
            <a:tbl>
              <a:tblPr/>
              <a:tblGrid>
                <a:gridCol w="2181240"/>
                <a:gridCol w="178092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.0.0.0/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 #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28.0.0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face #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43.128.0/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5661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face #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ext Box 43"/>
          <p:cNvSpPr/>
          <p:nvPr/>
        </p:nvSpPr>
        <p:spPr>
          <a:xfrm>
            <a:off x="5786280" y="5643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ut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Line 2"/>
          <p:cNvSpPr/>
          <p:nvPr/>
        </p:nvSpPr>
        <p:spPr>
          <a:xfrm flipV="1">
            <a:off x="1981080" y="2971800"/>
            <a:ext cx="175284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"/>
          <p:cNvSpPr/>
          <p:nvPr/>
        </p:nvSpPr>
        <p:spPr>
          <a:xfrm flipV="1">
            <a:off x="5562720" y="2057400"/>
            <a:ext cx="175248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"/>
          <p:cNvSpPr/>
          <p:nvPr/>
        </p:nvSpPr>
        <p:spPr>
          <a:xfrm>
            <a:off x="5715000" y="3505320"/>
            <a:ext cx="152388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"/>
          <p:cNvSpPr/>
          <p:nvPr/>
        </p:nvSpPr>
        <p:spPr>
          <a:xfrm>
            <a:off x="7086600" y="4343400"/>
            <a:ext cx="3808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6"/>
          <p:cNvSpPr/>
          <p:nvPr/>
        </p:nvSpPr>
        <p:spPr>
          <a:xfrm flipH="1">
            <a:off x="5181480" y="4343400"/>
            <a:ext cx="1828800" cy="137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DR and Routing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Group 8"/>
          <p:cNvGrpSpPr/>
          <p:nvPr/>
        </p:nvGrpSpPr>
        <p:grpSpPr>
          <a:xfrm>
            <a:off x="-151200" y="1586160"/>
            <a:ext cx="4002120" cy="4780800"/>
            <a:chOff x="-151200" y="1586160"/>
            <a:chExt cx="4002120" cy="4780800"/>
          </a:xfrm>
        </p:grpSpPr>
        <p:sp>
          <p:nvSpPr>
            <p:cNvPr id="376" name="Rectangle 9"/>
            <p:cNvSpPr/>
            <p:nvPr/>
          </p:nvSpPr>
          <p:spPr>
            <a:xfrm flipV="1">
              <a:off x="456480" y="3534120"/>
              <a:ext cx="2871000" cy="20484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rc 10"/>
            <p:cNvSpPr/>
            <p:nvPr/>
          </p:nvSpPr>
          <p:spPr>
            <a:xfrm flipV="1">
              <a:off x="2087640" y="4453200"/>
              <a:ext cx="1554840" cy="160164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rc 11"/>
            <p:cNvSpPr/>
            <p:nvPr/>
          </p:nvSpPr>
          <p:spPr>
            <a:xfrm flipV="1">
              <a:off x="120600" y="4721760"/>
              <a:ext cx="2218320" cy="164484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rc 12"/>
            <p:cNvSpPr/>
            <p:nvPr/>
          </p:nvSpPr>
          <p:spPr>
            <a:xfrm flipV="1" rot="5400000">
              <a:off x="-841320" y="3744720"/>
              <a:ext cx="2363400" cy="68076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rc 13"/>
            <p:cNvSpPr/>
            <p:nvPr/>
          </p:nvSpPr>
          <p:spPr>
            <a:xfrm flipV="1" rot="8989200">
              <a:off x="259920" y="1836720"/>
              <a:ext cx="1387800" cy="201168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rc 14"/>
            <p:cNvSpPr/>
            <p:nvPr/>
          </p:nvSpPr>
          <p:spPr>
            <a:xfrm flipV="1" rot="10583400">
              <a:off x="1172520" y="1643400"/>
              <a:ext cx="1892160" cy="201204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rc 15"/>
            <p:cNvSpPr/>
            <p:nvPr/>
          </p:nvSpPr>
          <p:spPr>
            <a:xfrm flipV="1" rot="11694600">
              <a:off x="2608920" y="2992320"/>
              <a:ext cx="1047960" cy="164484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6"/>
            <p:cNvSpPr/>
            <p:nvPr/>
          </p:nvSpPr>
          <p:spPr>
            <a:xfrm flipV="1">
              <a:off x="587160" y="2588760"/>
              <a:ext cx="2348640" cy="20484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7"/>
          <p:cNvGrpSpPr/>
          <p:nvPr/>
        </p:nvGrpSpPr>
        <p:grpSpPr>
          <a:xfrm>
            <a:off x="3352680" y="1460520"/>
            <a:ext cx="3290040" cy="2502000"/>
            <a:chOff x="3352680" y="1460520"/>
            <a:chExt cx="3290040" cy="2502000"/>
          </a:xfrm>
        </p:grpSpPr>
        <p:sp>
          <p:nvSpPr>
            <p:cNvPr id="385" name="Rectangle 18"/>
            <p:cNvSpPr/>
            <p:nvPr/>
          </p:nvSpPr>
          <p:spPr>
            <a:xfrm flipV="1">
              <a:off x="3751920" y="2545920"/>
              <a:ext cx="2512080" cy="102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rc 19"/>
            <p:cNvSpPr/>
            <p:nvPr/>
          </p:nvSpPr>
          <p:spPr>
            <a:xfrm flipV="1">
              <a:off x="5179320" y="3005280"/>
              <a:ext cx="1360440" cy="80100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rc 20"/>
            <p:cNvSpPr/>
            <p:nvPr/>
          </p:nvSpPr>
          <p:spPr>
            <a:xfrm flipV="1">
              <a:off x="3458160" y="3139560"/>
              <a:ext cx="1941120" cy="82260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rc 21"/>
            <p:cNvSpPr/>
            <p:nvPr/>
          </p:nvSpPr>
          <p:spPr>
            <a:xfrm flipV="1" rot="5400000">
              <a:off x="3059640" y="2523600"/>
              <a:ext cx="1181880" cy="59580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rc 22"/>
            <p:cNvSpPr/>
            <p:nvPr/>
          </p:nvSpPr>
          <p:spPr>
            <a:xfrm flipV="1" rot="8989200">
              <a:off x="3579840" y="1697040"/>
              <a:ext cx="1214280" cy="100584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rc 23"/>
            <p:cNvSpPr/>
            <p:nvPr/>
          </p:nvSpPr>
          <p:spPr>
            <a:xfrm flipV="1" rot="10583400">
              <a:off x="4377960" y="1600560"/>
              <a:ext cx="1655640" cy="100584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rc 24"/>
            <p:cNvSpPr/>
            <p:nvPr/>
          </p:nvSpPr>
          <p:spPr>
            <a:xfrm flipV="1" rot="11694600">
              <a:off x="5635440" y="2274480"/>
              <a:ext cx="916920" cy="82260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5"/>
            <p:cNvSpPr/>
            <p:nvPr/>
          </p:nvSpPr>
          <p:spPr>
            <a:xfrm flipV="1">
              <a:off x="3866400" y="2072880"/>
              <a:ext cx="2055240" cy="102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Rectangle 26"/>
          <p:cNvSpPr/>
          <p:nvPr/>
        </p:nvSpPr>
        <p:spPr>
          <a:xfrm>
            <a:off x="3809880" y="2666880"/>
            <a:ext cx="1752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6.0.64.0/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4.188.0.0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2.0/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22860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8"/>
          <p:cNvSpPr/>
          <p:nvPr/>
        </p:nvSpPr>
        <p:spPr>
          <a:xfrm>
            <a:off x="3809880" y="22096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P 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29"/>
          <p:cNvGrpSpPr/>
          <p:nvPr/>
        </p:nvGrpSpPr>
        <p:grpSpPr>
          <a:xfrm>
            <a:off x="6458040" y="1422360"/>
            <a:ext cx="2418840" cy="1493640"/>
            <a:chOff x="6458040" y="1422360"/>
            <a:chExt cx="2418840" cy="1493640"/>
          </a:xfrm>
        </p:grpSpPr>
        <p:sp>
          <p:nvSpPr>
            <p:cNvPr id="397" name="Rectangle 30"/>
            <p:cNvSpPr/>
            <p:nvPr/>
          </p:nvSpPr>
          <p:spPr>
            <a:xfrm flipV="1" rot="16200000">
              <a:off x="7464240" y="1609920"/>
              <a:ext cx="987120" cy="104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rc 31"/>
            <p:cNvSpPr/>
            <p:nvPr/>
          </p:nvSpPr>
          <p:spPr>
            <a:xfrm flipV="1" rot="16200000">
              <a:off x="8044200" y="1388520"/>
              <a:ext cx="534600" cy="8136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rc 32"/>
            <p:cNvSpPr/>
            <p:nvPr/>
          </p:nvSpPr>
          <p:spPr>
            <a:xfrm flipV="1" rot="16200000">
              <a:off x="8077680" y="1940040"/>
              <a:ext cx="762840" cy="83556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rc 33"/>
            <p:cNvSpPr/>
            <p:nvPr/>
          </p:nvSpPr>
          <p:spPr>
            <a:xfrm flipV="1">
              <a:off x="7117920" y="2547000"/>
              <a:ext cx="1200600" cy="2340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rc 34"/>
            <p:cNvSpPr/>
            <p:nvPr/>
          </p:nvSpPr>
          <p:spPr>
            <a:xfrm flipV="1" rot="3588600">
              <a:off x="6848280" y="1941120"/>
              <a:ext cx="477000" cy="102204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rc 35"/>
            <p:cNvSpPr/>
            <p:nvPr/>
          </p:nvSpPr>
          <p:spPr>
            <a:xfrm flipV="1" rot="5182800">
              <a:off x="6663240" y="1540800"/>
              <a:ext cx="650520" cy="102204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rc 36"/>
            <p:cNvSpPr/>
            <p:nvPr/>
          </p:nvSpPr>
          <p:spPr>
            <a:xfrm flipV="1" rot="6294000">
              <a:off x="7400160" y="1285560"/>
              <a:ext cx="360360" cy="83556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37"/>
            <p:cNvSpPr/>
            <p:nvPr/>
          </p:nvSpPr>
          <p:spPr>
            <a:xfrm flipV="1" rot="16200000">
              <a:off x="7074000" y="1654920"/>
              <a:ext cx="807480" cy="104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 Box 38"/>
          <p:cNvSpPr/>
          <p:nvPr/>
        </p:nvSpPr>
        <p:spPr>
          <a:xfrm>
            <a:off x="6781680" y="1828800"/>
            <a:ext cx="1828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 X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6.0.68.0/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39"/>
          <p:cNvGrpSpPr/>
          <p:nvPr/>
        </p:nvGrpSpPr>
        <p:grpSpPr>
          <a:xfrm>
            <a:off x="6534000" y="3251160"/>
            <a:ext cx="2419560" cy="1494000"/>
            <a:chOff x="6534000" y="3251160"/>
            <a:chExt cx="2419560" cy="1494000"/>
          </a:xfrm>
        </p:grpSpPr>
        <p:sp>
          <p:nvSpPr>
            <p:cNvPr id="407" name="Rectangle 40"/>
            <p:cNvSpPr/>
            <p:nvPr/>
          </p:nvSpPr>
          <p:spPr>
            <a:xfrm flipV="1" rot="16200000">
              <a:off x="7540920" y="3438720"/>
              <a:ext cx="987120" cy="104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rc 41"/>
            <p:cNvSpPr/>
            <p:nvPr/>
          </p:nvSpPr>
          <p:spPr>
            <a:xfrm flipV="1" rot="16200000">
              <a:off x="8120880" y="3217320"/>
              <a:ext cx="534600" cy="81396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rc 42"/>
            <p:cNvSpPr/>
            <p:nvPr/>
          </p:nvSpPr>
          <p:spPr>
            <a:xfrm flipV="1" rot="16200000">
              <a:off x="8154000" y="3768480"/>
              <a:ext cx="762840" cy="83592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rc 43"/>
            <p:cNvSpPr/>
            <p:nvPr/>
          </p:nvSpPr>
          <p:spPr>
            <a:xfrm flipV="1">
              <a:off x="7193880" y="4375800"/>
              <a:ext cx="1200960" cy="2340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rc 44"/>
            <p:cNvSpPr/>
            <p:nvPr/>
          </p:nvSpPr>
          <p:spPr>
            <a:xfrm flipV="1" rot="3588600">
              <a:off x="6924600" y="3770280"/>
              <a:ext cx="477000" cy="10224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rc 45"/>
            <p:cNvSpPr/>
            <p:nvPr/>
          </p:nvSpPr>
          <p:spPr>
            <a:xfrm flipV="1" rot="5182800">
              <a:off x="6739200" y="3369240"/>
              <a:ext cx="650520" cy="10224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rc 46"/>
            <p:cNvSpPr/>
            <p:nvPr/>
          </p:nvSpPr>
          <p:spPr>
            <a:xfrm flipV="1" rot="6294000">
              <a:off x="7476480" y="3115080"/>
              <a:ext cx="360360" cy="83592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47"/>
            <p:cNvSpPr/>
            <p:nvPr/>
          </p:nvSpPr>
          <p:spPr>
            <a:xfrm flipV="1" rot="16200000">
              <a:off x="7150680" y="3483720"/>
              <a:ext cx="807480" cy="104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48"/>
          <p:cNvSpPr/>
          <p:nvPr/>
        </p:nvSpPr>
        <p:spPr>
          <a:xfrm>
            <a:off x="6934320" y="3733920"/>
            <a:ext cx="1828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P y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7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49"/>
          <p:cNvGrpSpPr/>
          <p:nvPr/>
        </p:nvGrpSpPr>
        <p:grpSpPr>
          <a:xfrm>
            <a:off x="3607920" y="5136120"/>
            <a:ext cx="2335680" cy="1493280"/>
            <a:chOff x="3607920" y="5136120"/>
            <a:chExt cx="2335680" cy="1493280"/>
          </a:xfrm>
        </p:grpSpPr>
        <p:sp>
          <p:nvSpPr>
            <p:cNvPr id="417" name="Rectangle 50"/>
            <p:cNvSpPr/>
            <p:nvPr/>
          </p:nvSpPr>
          <p:spPr>
            <a:xfrm flipH="1" flipV="1">
              <a:off x="3864240" y="5807160"/>
              <a:ext cx="179424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rc 51"/>
            <p:cNvSpPr/>
            <p:nvPr/>
          </p:nvSpPr>
          <p:spPr>
            <a:xfrm flipH="1" flipV="1">
              <a:off x="3666960" y="6073920"/>
              <a:ext cx="971640" cy="4651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rc 52"/>
            <p:cNvSpPr/>
            <p:nvPr/>
          </p:nvSpPr>
          <p:spPr>
            <a:xfrm flipH="1" flipV="1">
              <a:off x="4481640" y="6152040"/>
              <a:ext cx="1386360" cy="4773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rc 53"/>
            <p:cNvSpPr/>
            <p:nvPr/>
          </p:nvSpPr>
          <p:spPr>
            <a:xfrm flipH="1" flipV="1" rot="16200000">
              <a:off x="5387760" y="5754240"/>
              <a:ext cx="686160" cy="4255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rc 54"/>
            <p:cNvSpPr/>
            <p:nvPr/>
          </p:nvSpPr>
          <p:spPr>
            <a:xfrm flipH="1" flipV="1" rot="12610800">
              <a:off x="4913280" y="5313960"/>
              <a:ext cx="867240" cy="583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rc 55"/>
            <p:cNvSpPr/>
            <p:nvPr/>
          </p:nvSpPr>
          <p:spPr>
            <a:xfrm flipH="1" flipV="1" rot="11016600">
              <a:off x="4028040" y="5258160"/>
              <a:ext cx="1182600" cy="583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rc 56"/>
            <p:cNvSpPr/>
            <p:nvPr/>
          </p:nvSpPr>
          <p:spPr>
            <a:xfrm flipH="1" flipV="1" rot="9905400">
              <a:off x="3657960" y="5649120"/>
              <a:ext cx="654840" cy="4773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57"/>
            <p:cNvSpPr/>
            <p:nvPr/>
          </p:nvSpPr>
          <p:spPr>
            <a:xfrm flipH="1" flipV="1">
              <a:off x="4108680" y="5532480"/>
              <a:ext cx="146808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 Box 58"/>
          <p:cNvSpPr/>
          <p:nvPr/>
        </p:nvSpPr>
        <p:spPr>
          <a:xfrm>
            <a:off x="3809880" y="56386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 z1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7.192/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59"/>
          <p:cNvGrpSpPr/>
          <p:nvPr/>
        </p:nvGrpSpPr>
        <p:grpSpPr>
          <a:xfrm>
            <a:off x="6198840" y="5212440"/>
            <a:ext cx="2335680" cy="1493280"/>
            <a:chOff x="6198840" y="5212440"/>
            <a:chExt cx="2335680" cy="1493280"/>
          </a:xfrm>
        </p:grpSpPr>
        <p:sp>
          <p:nvSpPr>
            <p:cNvPr id="427" name="Rectangle 60"/>
            <p:cNvSpPr/>
            <p:nvPr/>
          </p:nvSpPr>
          <p:spPr>
            <a:xfrm flipH="1" flipV="1">
              <a:off x="6455160" y="5883480"/>
              <a:ext cx="179424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rc 61"/>
            <p:cNvSpPr/>
            <p:nvPr/>
          </p:nvSpPr>
          <p:spPr>
            <a:xfrm flipH="1" flipV="1">
              <a:off x="6257880" y="6150240"/>
              <a:ext cx="971640" cy="4651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rc 62"/>
            <p:cNvSpPr/>
            <p:nvPr/>
          </p:nvSpPr>
          <p:spPr>
            <a:xfrm flipH="1" flipV="1">
              <a:off x="7072560" y="6228360"/>
              <a:ext cx="1386360" cy="4773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rc 63"/>
            <p:cNvSpPr/>
            <p:nvPr/>
          </p:nvSpPr>
          <p:spPr>
            <a:xfrm flipH="1" flipV="1" rot="16200000">
              <a:off x="7978680" y="5830560"/>
              <a:ext cx="686160" cy="4255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rc 64"/>
            <p:cNvSpPr/>
            <p:nvPr/>
          </p:nvSpPr>
          <p:spPr>
            <a:xfrm flipH="1" flipV="1" rot="12610800">
              <a:off x="7504200" y="5390280"/>
              <a:ext cx="867240" cy="583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rc 65"/>
            <p:cNvSpPr/>
            <p:nvPr/>
          </p:nvSpPr>
          <p:spPr>
            <a:xfrm flipH="1" flipV="1" rot="11016600">
              <a:off x="6618960" y="5334480"/>
              <a:ext cx="1182600" cy="583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rc 66"/>
            <p:cNvSpPr/>
            <p:nvPr/>
          </p:nvSpPr>
          <p:spPr>
            <a:xfrm flipH="1" flipV="1" rot="9905400">
              <a:off x="6248880" y="5725440"/>
              <a:ext cx="654840" cy="4773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67"/>
            <p:cNvSpPr/>
            <p:nvPr/>
          </p:nvSpPr>
          <p:spPr>
            <a:xfrm flipH="1" flipV="1">
              <a:off x="6699600" y="5608800"/>
              <a:ext cx="146808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68"/>
          <p:cNvSpPr/>
          <p:nvPr/>
        </p:nvSpPr>
        <p:spPr>
          <a:xfrm>
            <a:off x="6400800" y="571500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 z2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7.0/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Line 2"/>
          <p:cNvSpPr/>
          <p:nvPr/>
        </p:nvSpPr>
        <p:spPr>
          <a:xfrm flipV="1">
            <a:off x="1981080" y="2971800"/>
            <a:ext cx="175284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"/>
          <p:cNvSpPr/>
          <p:nvPr/>
        </p:nvSpPr>
        <p:spPr>
          <a:xfrm flipV="1">
            <a:off x="5562720" y="2057400"/>
            <a:ext cx="175248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>
            <a:off x="5715000" y="3505320"/>
            <a:ext cx="152388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"/>
          <p:cNvSpPr/>
          <p:nvPr/>
        </p:nvSpPr>
        <p:spPr>
          <a:xfrm>
            <a:off x="7086600" y="4343400"/>
            <a:ext cx="3808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 flipH="1">
            <a:off x="5181480" y="4343400"/>
            <a:ext cx="1828800" cy="137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IDR and Routing 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Group 8"/>
          <p:cNvGrpSpPr/>
          <p:nvPr/>
        </p:nvGrpSpPr>
        <p:grpSpPr>
          <a:xfrm>
            <a:off x="-8280" y="1657800"/>
            <a:ext cx="4002120" cy="4780800"/>
            <a:chOff x="-8280" y="1657800"/>
            <a:chExt cx="4002120" cy="4780800"/>
          </a:xfrm>
        </p:grpSpPr>
        <p:sp>
          <p:nvSpPr>
            <p:cNvPr id="443" name="Rectangle 9"/>
            <p:cNvSpPr/>
            <p:nvPr/>
          </p:nvSpPr>
          <p:spPr>
            <a:xfrm flipV="1">
              <a:off x="599400" y="3605760"/>
              <a:ext cx="2871000" cy="20484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rc 10"/>
            <p:cNvSpPr/>
            <p:nvPr/>
          </p:nvSpPr>
          <p:spPr>
            <a:xfrm flipV="1">
              <a:off x="2230560" y="4524840"/>
              <a:ext cx="1554840" cy="160164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rc 11"/>
            <p:cNvSpPr/>
            <p:nvPr/>
          </p:nvSpPr>
          <p:spPr>
            <a:xfrm flipV="1">
              <a:off x="263520" y="4793400"/>
              <a:ext cx="2218320" cy="164484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rc 12"/>
            <p:cNvSpPr/>
            <p:nvPr/>
          </p:nvSpPr>
          <p:spPr>
            <a:xfrm flipV="1" rot="5400000">
              <a:off x="-698400" y="3816360"/>
              <a:ext cx="2363400" cy="68076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rc 13"/>
            <p:cNvSpPr/>
            <p:nvPr/>
          </p:nvSpPr>
          <p:spPr>
            <a:xfrm flipV="1" rot="8989200">
              <a:off x="402840" y="1908360"/>
              <a:ext cx="1387800" cy="201168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rc 14"/>
            <p:cNvSpPr/>
            <p:nvPr/>
          </p:nvSpPr>
          <p:spPr>
            <a:xfrm flipV="1" rot="10583400">
              <a:off x="1315440" y="1715040"/>
              <a:ext cx="1892160" cy="201204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rc 15"/>
            <p:cNvSpPr/>
            <p:nvPr/>
          </p:nvSpPr>
          <p:spPr>
            <a:xfrm flipV="1" rot="11694600">
              <a:off x="2751840" y="3063960"/>
              <a:ext cx="1047960" cy="1644840"/>
            </a:xfrm>
            <a:prstGeom prst="pie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6"/>
            <p:cNvSpPr/>
            <p:nvPr/>
          </p:nvSpPr>
          <p:spPr>
            <a:xfrm flipV="1">
              <a:off x="730080" y="2660400"/>
              <a:ext cx="2348640" cy="20484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7"/>
          <p:cNvGrpSpPr/>
          <p:nvPr/>
        </p:nvGrpSpPr>
        <p:grpSpPr>
          <a:xfrm>
            <a:off x="3352680" y="1460520"/>
            <a:ext cx="3290040" cy="2502000"/>
            <a:chOff x="3352680" y="1460520"/>
            <a:chExt cx="3290040" cy="2502000"/>
          </a:xfrm>
        </p:grpSpPr>
        <p:sp>
          <p:nvSpPr>
            <p:cNvPr id="452" name="Rectangle 18"/>
            <p:cNvSpPr/>
            <p:nvPr/>
          </p:nvSpPr>
          <p:spPr>
            <a:xfrm flipV="1">
              <a:off x="3751920" y="2545920"/>
              <a:ext cx="2512080" cy="102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rc 19"/>
            <p:cNvSpPr/>
            <p:nvPr/>
          </p:nvSpPr>
          <p:spPr>
            <a:xfrm flipV="1">
              <a:off x="5179320" y="3005280"/>
              <a:ext cx="1360440" cy="80100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rc 20"/>
            <p:cNvSpPr/>
            <p:nvPr/>
          </p:nvSpPr>
          <p:spPr>
            <a:xfrm flipV="1">
              <a:off x="3458160" y="3139560"/>
              <a:ext cx="1941120" cy="82260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rc 21"/>
            <p:cNvSpPr/>
            <p:nvPr/>
          </p:nvSpPr>
          <p:spPr>
            <a:xfrm flipV="1" rot="5400000">
              <a:off x="3059640" y="2523600"/>
              <a:ext cx="1181880" cy="59580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rc 22"/>
            <p:cNvSpPr/>
            <p:nvPr/>
          </p:nvSpPr>
          <p:spPr>
            <a:xfrm flipV="1" rot="8989200">
              <a:off x="3579840" y="1697040"/>
              <a:ext cx="1214280" cy="100584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rc 23"/>
            <p:cNvSpPr/>
            <p:nvPr/>
          </p:nvSpPr>
          <p:spPr>
            <a:xfrm flipV="1" rot="10583400">
              <a:off x="4377960" y="1600560"/>
              <a:ext cx="1655640" cy="100584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rc 24"/>
            <p:cNvSpPr/>
            <p:nvPr/>
          </p:nvSpPr>
          <p:spPr>
            <a:xfrm flipV="1" rot="11694600">
              <a:off x="5635440" y="2274480"/>
              <a:ext cx="916920" cy="82260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5"/>
            <p:cNvSpPr/>
            <p:nvPr/>
          </p:nvSpPr>
          <p:spPr>
            <a:xfrm flipV="1">
              <a:off x="3866400" y="2072880"/>
              <a:ext cx="2055240" cy="102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Rectangle 26"/>
          <p:cNvSpPr/>
          <p:nvPr/>
        </p:nvSpPr>
        <p:spPr>
          <a:xfrm>
            <a:off x="3809880" y="2666880"/>
            <a:ext cx="1752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6.0.64.0/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4.188.0.0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2.0/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7"/>
          <p:cNvSpPr/>
          <p:nvPr/>
        </p:nvSpPr>
        <p:spPr>
          <a:xfrm>
            <a:off x="22860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8"/>
          <p:cNvSpPr/>
          <p:nvPr/>
        </p:nvSpPr>
        <p:spPr>
          <a:xfrm>
            <a:off x="3809880" y="22096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P 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29"/>
          <p:cNvGrpSpPr/>
          <p:nvPr/>
        </p:nvGrpSpPr>
        <p:grpSpPr>
          <a:xfrm>
            <a:off x="6458040" y="1422360"/>
            <a:ext cx="2418840" cy="1493640"/>
            <a:chOff x="6458040" y="1422360"/>
            <a:chExt cx="2418840" cy="1493640"/>
          </a:xfrm>
        </p:grpSpPr>
        <p:sp>
          <p:nvSpPr>
            <p:cNvPr id="464" name="Rectangle 30"/>
            <p:cNvSpPr/>
            <p:nvPr/>
          </p:nvSpPr>
          <p:spPr>
            <a:xfrm flipV="1" rot="16200000">
              <a:off x="7464240" y="1609920"/>
              <a:ext cx="987120" cy="104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rc 31"/>
            <p:cNvSpPr/>
            <p:nvPr/>
          </p:nvSpPr>
          <p:spPr>
            <a:xfrm flipV="1" rot="16200000">
              <a:off x="8044200" y="1388520"/>
              <a:ext cx="534600" cy="8136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rc 32"/>
            <p:cNvSpPr/>
            <p:nvPr/>
          </p:nvSpPr>
          <p:spPr>
            <a:xfrm flipV="1" rot="16200000">
              <a:off x="8077680" y="1940040"/>
              <a:ext cx="762840" cy="83556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rc 33"/>
            <p:cNvSpPr/>
            <p:nvPr/>
          </p:nvSpPr>
          <p:spPr>
            <a:xfrm flipV="1">
              <a:off x="7117920" y="2547000"/>
              <a:ext cx="1200600" cy="2340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rc 34"/>
            <p:cNvSpPr/>
            <p:nvPr/>
          </p:nvSpPr>
          <p:spPr>
            <a:xfrm flipV="1" rot="3588600">
              <a:off x="6848280" y="1941120"/>
              <a:ext cx="477000" cy="102204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rc 35"/>
            <p:cNvSpPr/>
            <p:nvPr/>
          </p:nvSpPr>
          <p:spPr>
            <a:xfrm flipV="1" rot="5182800">
              <a:off x="6663240" y="1540800"/>
              <a:ext cx="650520" cy="102204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rc 36"/>
            <p:cNvSpPr/>
            <p:nvPr/>
          </p:nvSpPr>
          <p:spPr>
            <a:xfrm flipV="1" rot="6294000">
              <a:off x="7400160" y="1285560"/>
              <a:ext cx="360360" cy="83556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37"/>
            <p:cNvSpPr/>
            <p:nvPr/>
          </p:nvSpPr>
          <p:spPr>
            <a:xfrm flipV="1" rot="16200000">
              <a:off x="7074000" y="1654920"/>
              <a:ext cx="807480" cy="104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Text Box 38"/>
          <p:cNvSpPr/>
          <p:nvPr/>
        </p:nvSpPr>
        <p:spPr>
          <a:xfrm>
            <a:off x="6781680" y="1828800"/>
            <a:ext cx="1828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 X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6.0.68.0/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39"/>
          <p:cNvGrpSpPr/>
          <p:nvPr/>
        </p:nvGrpSpPr>
        <p:grpSpPr>
          <a:xfrm>
            <a:off x="6534000" y="3251160"/>
            <a:ext cx="2419560" cy="1494000"/>
            <a:chOff x="6534000" y="3251160"/>
            <a:chExt cx="2419560" cy="1494000"/>
          </a:xfrm>
        </p:grpSpPr>
        <p:sp>
          <p:nvSpPr>
            <p:cNvPr id="474" name="Rectangle 40"/>
            <p:cNvSpPr/>
            <p:nvPr/>
          </p:nvSpPr>
          <p:spPr>
            <a:xfrm flipV="1" rot="16200000">
              <a:off x="7540920" y="3438720"/>
              <a:ext cx="987120" cy="104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rc 41"/>
            <p:cNvSpPr/>
            <p:nvPr/>
          </p:nvSpPr>
          <p:spPr>
            <a:xfrm flipV="1" rot="16200000">
              <a:off x="8120880" y="3217320"/>
              <a:ext cx="534600" cy="81396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rc 42"/>
            <p:cNvSpPr/>
            <p:nvPr/>
          </p:nvSpPr>
          <p:spPr>
            <a:xfrm flipV="1" rot="16200000">
              <a:off x="8154000" y="3768480"/>
              <a:ext cx="762840" cy="83592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rc 43"/>
            <p:cNvSpPr/>
            <p:nvPr/>
          </p:nvSpPr>
          <p:spPr>
            <a:xfrm flipV="1">
              <a:off x="7193880" y="4375800"/>
              <a:ext cx="1200960" cy="2340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rc 44"/>
            <p:cNvSpPr/>
            <p:nvPr/>
          </p:nvSpPr>
          <p:spPr>
            <a:xfrm flipV="1" rot="3588600">
              <a:off x="6924600" y="3770280"/>
              <a:ext cx="477000" cy="10224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rc 45"/>
            <p:cNvSpPr/>
            <p:nvPr/>
          </p:nvSpPr>
          <p:spPr>
            <a:xfrm flipV="1" rot="5182800">
              <a:off x="6739200" y="3369240"/>
              <a:ext cx="650520" cy="102240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rc 46"/>
            <p:cNvSpPr/>
            <p:nvPr/>
          </p:nvSpPr>
          <p:spPr>
            <a:xfrm flipV="1" rot="6294000">
              <a:off x="7476480" y="3115080"/>
              <a:ext cx="360360" cy="835920"/>
            </a:xfrm>
            <a:prstGeom prst="pi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47"/>
            <p:cNvSpPr/>
            <p:nvPr/>
          </p:nvSpPr>
          <p:spPr>
            <a:xfrm flipV="1" rot="16200000">
              <a:off x="7150680" y="3483720"/>
              <a:ext cx="807480" cy="104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 Box 48"/>
          <p:cNvSpPr/>
          <p:nvPr/>
        </p:nvSpPr>
        <p:spPr>
          <a:xfrm>
            <a:off x="6934320" y="3733920"/>
            <a:ext cx="1828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P y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7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49"/>
          <p:cNvGrpSpPr/>
          <p:nvPr/>
        </p:nvGrpSpPr>
        <p:grpSpPr>
          <a:xfrm>
            <a:off x="3607920" y="5136120"/>
            <a:ext cx="2335680" cy="1493280"/>
            <a:chOff x="3607920" y="5136120"/>
            <a:chExt cx="2335680" cy="1493280"/>
          </a:xfrm>
        </p:grpSpPr>
        <p:sp>
          <p:nvSpPr>
            <p:cNvPr id="484" name="Rectangle 50"/>
            <p:cNvSpPr/>
            <p:nvPr/>
          </p:nvSpPr>
          <p:spPr>
            <a:xfrm flipH="1" flipV="1">
              <a:off x="3864240" y="5807160"/>
              <a:ext cx="179424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rc 51"/>
            <p:cNvSpPr/>
            <p:nvPr/>
          </p:nvSpPr>
          <p:spPr>
            <a:xfrm flipH="1" flipV="1">
              <a:off x="3666960" y="6073920"/>
              <a:ext cx="971640" cy="4651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rc 52"/>
            <p:cNvSpPr/>
            <p:nvPr/>
          </p:nvSpPr>
          <p:spPr>
            <a:xfrm flipH="1" flipV="1">
              <a:off x="4481640" y="6152040"/>
              <a:ext cx="1386360" cy="4773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rc 53"/>
            <p:cNvSpPr/>
            <p:nvPr/>
          </p:nvSpPr>
          <p:spPr>
            <a:xfrm flipH="1" flipV="1" rot="16200000">
              <a:off x="5387760" y="5754240"/>
              <a:ext cx="686160" cy="4255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rc 54"/>
            <p:cNvSpPr/>
            <p:nvPr/>
          </p:nvSpPr>
          <p:spPr>
            <a:xfrm flipH="1" flipV="1" rot="12610800">
              <a:off x="4913280" y="5313960"/>
              <a:ext cx="867240" cy="583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rc 55"/>
            <p:cNvSpPr/>
            <p:nvPr/>
          </p:nvSpPr>
          <p:spPr>
            <a:xfrm flipH="1" flipV="1" rot="11016600">
              <a:off x="4028040" y="5258160"/>
              <a:ext cx="1182600" cy="583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rc 56"/>
            <p:cNvSpPr/>
            <p:nvPr/>
          </p:nvSpPr>
          <p:spPr>
            <a:xfrm flipH="1" flipV="1" rot="9905400">
              <a:off x="3657960" y="5649120"/>
              <a:ext cx="654840" cy="4773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57"/>
            <p:cNvSpPr/>
            <p:nvPr/>
          </p:nvSpPr>
          <p:spPr>
            <a:xfrm flipH="1" flipV="1">
              <a:off x="4108680" y="5532480"/>
              <a:ext cx="146808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Text Box 58"/>
          <p:cNvSpPr/>
          <p:nvPr/>
        </p:nvSpPr>
        <p:spPr>
          <a:xfrm>
            <a:off x="3809880" y="56386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 z1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7.192/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59"/>
          <p:cNvGrpSpPr/>
          <p:nvPr/>
        </p:nvGrpSpPr>
        <p:grpSpPr>
          <a:xfrm>
            <a:off x="6198840" y="5212440"/>
            <a:ext cx="2335680" cy="1493280"/>
            <a:chOff x="6198840" y="5212440"/>
            <a:chExt cx="2335680" cy="1493280"/>
          </a:xfrm>
        </p:grpSpPr>
        <p:sp>
          <p:nvSpPr>
            <p:cNvPr id="494" name="Rectangle 60"/>
            <p:cNvSpPr/>
            <p:nvPr/>
          </p:nvSpPr>
          <p:spPr>
            <a:xfrm flipH="1" flipV="1">
              <a:off x="6455160" y="5883480"/>
              <a:ext cx="179424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rc 61"/>
            <p:cNvSpPr/>
            <p:nvPr/>
          </p:nvSpPr>
          <p:spPr>
            <a:xfrm flipH="1" flipV="1">
              <a:off x="6257880" y="6150240"/>
              <a:ext cx="971640" cy="4651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rc 62"/>
            <p:cNvSpPr/>
            <p:nvPr/>
          </p:nvSpPr>
          <p:spPr>
            <a:xfrm flipH="1" flipV="1">
              <a:off x="7072560" y="6228360"/>
              <a:ext cx="1386360" cy="4773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rc 63"/>
            <p:cNvSpPr/>
            <p:nvPr/>
          </p:nvSpPr>
          <p:spPr>
            <a:xfrm flipH="1" flipV="1" rot="16200000">
              <a:off x="7978680" y="5830560"/>
              <a:ext cx="686160" cy="4255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rc 64"/>
            <p:cNvSpPr/>
            <p:nvPr/>
          </p:nvSpPr>
          <p:spPr>
            <a:xfrm flipH="1" flipV="1" rot="12610800">
              <a:off x="7504200" y="5390280"/>
              <a:ext cx="867240" cy="583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rc 65"/>
            <p:cNvSpPr/>
            <p:nvPr/>
          </p:nvSpPr>
          <p:spPr>
            <a:xfrm flipH="1" flipV="1" rot="11016600">
              <a:off x="6618960" y="5334480"/>
              <a:ext cx="1182600" cy="583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rc 66"/>
            <p:cNvSpPr/>
            <p:nvPr/>
          </p:nvSpPr>
          <p:spPr>
            <a:xfrm flipH="1" flipV="1" rot="9905400">
              <a:off x="6248880" y="5725440"/>
              <a:ext cx="654840" cy="4773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67"/>
            <p:cNvSpPr/>
            <p:nvPr/>
          </p:nvSpPr>
          <p:spPr>
            <a:xfrm flipH="1" flipV="1">
              <a:off x="6699600" y="5608800"/>
              <a:ext cx="1468080" cy="59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Text Box 68"/>
          <p:cNvSpPr/>
          <p:nvPr/>
        </p:nvSpPr>
        <p:spPr>
          <a:xfrm>
            <a:off x="6400800" y="571500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 z2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7.0/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69"/>
          <p:cNvSpPr/>
          <p:nvPr/>
        </p:nvSpPr>
        <p:spPr>
          <a:xfrm>
            <a:off x="228600" y="5257800"/>
            <a:ext cx="3191040" cy="1067400"/>
          </a:xfrm>
          <a:prstGeom prst="borderCallout1">
            <a:avLst>
              <a:gd name="adj1" fmla="val 18750"/>
              <a:gd name="adj2" fmla="val -8333"/>
              <a:gd name="adj3" fmla="val -43828"/>
              <a:gd name="adj4" fmla="val -536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Backbone sends everything which matches the prefixes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 206.0.64.0/18, 204.188.0.0/15, 209.88.232.0/21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to ISP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70"/>
          <p:cNvSpPr/>
          <p:nvPr/>
        </p:nvSpPr>
        <p:spPr>
          <a:xfrm>
            <a:off x="457200" y="3505320"/>
            <a:ext cx="3191040" cy="1067400"/>
          </a:xfrm>
          <a:prstGeom prst="borderCallout1">
            <a:avLst>
              <a:gd name="adj1" fmla="val 18750"/>
              <a:gd name="adj2" fmla="val -8333"/>
              <a:gd name="adj3" fmla="val 2527"/>
              <a:gd name="adj4" fmla="val 11611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ISP X sends everything which matches the prefix: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6.0.68.0/22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to Company X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7.0/24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to ISP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71"/>
          <p:cNvSpPr/>
          <p:nvPr/>
        </p:nvSpPr>
        <p:spPr>
          <a:xfrm>
            <a:off x="1285920" y="1015920"/>
            <a:ext cx="3190680" cy="824040"/>
          </a:xfrm>
          <a:prstGeom prst="borderCallout1">
            <a:avLst>
              <a:gd name="adj1" fmla="val 18750"/>
              <a:gd name="adj2" fmla="val -8333"/>
              <a:gd name="adj3" fmla="val 204189"/>
              <a:gd name="adj4" fmla="val -20888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Backbone routers do not know anything about Company X, ISP Y, or Organizations z1, z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72"/>
          <p:cNvSpPr/>
          <p:nvPr/>
        </p:nvSpPr>
        <p:spPr>
          <a:xfrm>
            <a:off x="152280" y="2362320"/>
            <a:ext cx="3191040" cy="580680"/>
          </a:xfrm>
          <a:prstGeom prst="borderCallout1">
            <a:avLst>
              <a:gd name="adj1" fmla="val 18750"/>
              <a:gd name="adj2" fmla="val -8333"/>
              <a:gd name="adj3" fmla="val 76763"/>
              <a:gd name="adj4" fmla="val 1188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ISP X does not know about Organizations z1, z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73"/>
          <p:cNvSpPr/>
          <p:nvPr/>
        </p:nvSpPr>
        <p:spPr>
          <a:xfrm>
            <a:off x="3581280" y="2281320"/>
            <a:ext cx="3886200" cy="1067400"/>
          </a:xfrm>
          <a:prstGeom prst="borderCallout1">
            <a:avLst>
              <a:gd name="adj1" fmla="val 18750"/>
              <a:gd name="adj2" fmla="val -8333"/>
              <a:gd name="adj3" fmla="val 98481"/>
              <a:gd name="adj4" fmla="val 12008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ISP y sends everything which matches the prefix: </a:t>
            </a:r>
            <a:br>
              <a:rPr sz="1600"/>
            </a:b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7.192/26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to Organizations z1</a:t>
            </a:r>
            <a:br>
              <a:rPr sz="1600"/>
            </a:b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0504d"/>
                </a:solidFill>
                <a:latin typeface="Arial"/>
              </a:rPr>
              <a:t>209.88.237.0/26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to Organizations z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v6 - IP Version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P Version 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 successor to the currently used IPv4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cification completed in 199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s improvements to IPv4 (no revolutionary chang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e (not the only !) feature of IPv6 is a significant increase in of the IP address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128 bits (16 byt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Pv6 will solve – for the foreseeable future – the problems with IP addre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4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ddresses per square inch on the surface of the Eart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Pv6 Head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Object 2"/>
          <p:cNvGraphicFramePr/>
          <p:nvPr/>
        </p:nvGraphicFramePr>
        <p:xfrm>
          <a:off x="457200" y="5310360"/>
          <a:ext cx="846756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10360"/>
                    <a:ext cx="846756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Line 4"/>
          <p:cNvSpPr/>
          <p:nvPr/>
        </p:nvSpPr>
        <p:spPr>
          <a:xfrm>
            <a:off x="1828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"/>
          <p:cNvSpPr/>
          <p:nvPr/>
        </p:nvSpPr>
        <p:spPr>
          <a:xfrm flipH="1">
            <a:off x="3276360" y="5181480"/>
            <a:ext cx="5105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3"/>
          <p:cNvGraphicFramePr/>
          <p:nvPr/>
        </p:nvGraphicFramePr>
        <p:xfrm>
          <a:off x="533520" y="838080"/>
          <a:ext cx="8472240" cy="444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838080"/>
                    <a:ext cx="847224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v6 vs. IPv4: Address Compari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785960"/>
            <a:ext cx="91440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Pv4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maximum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32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4 billion addr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IPv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s a maximum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</a:t>
            </a:r>
            <a:r>
              <a:rPr b="1" lang="en-US" sz="2400" spc="-1" strike="noStrike" baseline="30000">
                <a:solidFill>
                  <a:srgbClr val="c0504d"/>
                </a:solidFill>
                <a:latin typeface="Calibri"/>
              </a:rPr>
              <a:t>128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= (2</a:t>
            </a:r>
            <a:r>
              <a:rPr b="1" lang="en-US" sz="2400" spc="-1" strike="noStrike" baseline="30000">
                <a:solidFill>
                  <a:srgbClr val="c0504d"/>
                </a:solidFill>
                <a:latin typeface="Calibri"/>
              </a:rPr>
              <a:t>32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en-US" sz="2400" spc="-1" strike="noStrike" baseline="30000">
                <a:solidFill>
                  <a:srgbClr val="c0504d"/>
                </a:solidFill>
                <a:latin typeface="Calibri"/>
              </a:rPr>
              <a:t>4 </a:t>
            </a:r>
            <a:r>
              <a:rPr b="1" lang="en-US" sz="2400" spc="-1" strike="noStrike">
                <a:solidFill>
                  <a:srgbClr val="c0504d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4 billion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  <a:ea typeface="Arial"/>
              </a:rPr>
              <a:t>x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4 billion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  <a:ea typeface="Arial"/>
              </a:rPr>
              <a:t>x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4 billion x 4 billion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                addr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rse web site: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lambda.ee/index.php/Andmeside_protokoll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use seve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erials on web (wikipedia, RFC-s, 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rse materials (ppt, pdf) from CISCO and other univers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mmended book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Hunt "TCP/IP network administration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.Comer, S.Stevens "Internetworking with TCP/IP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llings "Data and computer communications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ation of IPv6 addr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Conven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128-bit IPv6 address is written 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ight 16-bit inte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using hexadecimal digits for each integ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EDF:BP76:3245:4464:FACE:2E50:3025:DF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Short not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breviations of leading zero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EDF:BP76:0000:0000:009E:0000:3025:DF12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CEDF:BP76:0:0:9E :0:3025:DF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0000:0000:0000” can be written as “::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EDF:BP76:0:0:FACE:0:3025:DF12    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EDF:BP76::FACE:0:3025:DF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v6 addresses derived from IPv4 addresses have 96 leading zero bits. Convention allows to use IPv4 notation for the last 32 b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::80:8F:89:90   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::128.143.137.14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v6 Provider-Based Addr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first IPv6 addresses will be allocated to a provider-based pl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Type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t to “010” for provider-based address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Registr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identifies the agency that registered the addr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c0504d"/>
                </a:solidFill>
                <a:latin typeface="Calibri"/>
              </a:rPr>
              <a:t>The following fields have a variable length (recommeded length in “()”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Provide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Id of Internet access provider </a:t>
            </a:r>
            <a:r>
              <a:rPr b="0" i="1" lang="en-US" sz="1700" spc="-1" strike="noStrike">
                <a:solidFill>
                  <a:srgbClr val="c0504d"/>
                </a:solidFill>
                <a:latin typeface="Calibri"/>
              </a:rPr>
              <a:t>(16 bit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Subscriber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d of the organization at provider </a:t>
            </a:r>
            <a:r>
              <a:rPr b="0" i="1" lang="en-US" sz="1700" spc="-1" strike="noStrike">
                <a:solidFill>
                  <a:srgbClr val="c0504d"/>
                </a:solidFill>
                <a:latin typeface="Calibri"/>
              </a:rPr>
              <a:t>(24 bit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Subnetwork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Id of subnet within organization </a:t>
            </a:r>
            <a:r>
              <a:rPr b="0" i="1" lang="en-US" sz="1700" spc="-1" strike="noStrike">
                <a:solidFill>
                  <a:srgbClr val="c0504d"/>
                </a:solidFill>
                <a:latin typeface="Calibri"/>
              </a:rPr>
              <a:t>(32 bit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4687920"/>
                <a:tab algn="l" pos="497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Interfac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identifies an interface at a node </a:t>
            </a:r>
            <a:r>
              <a:rPr b="0" i="1" lang="en-US" sz="1700" spc="-1" strike="noStrike">
                <a:solidFill>
                  <a:srgbClr val="c0504d"/>
                </a:solidFill>
                <a:latin typeface="Calibri"/>
              </a:rPr>
              <a:t>(48 bit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066680" y="2362320"/>
            <a:ext cx="1371600" cy="685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str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2438280" y="2362320"/>
            <a:ext cx="1371600" cy="6858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997a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vid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457200" y="2362320"/>
            <a:ext cx="609480" cy="68580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3809880" y="2362320"/>
            <a:ext cx="1600200" cy="685800"/>
          </a:xfrm>
          <a:prstGeom prst="rect">
            <a:avLst/>
          </a:prstGeom>
          <a:solidFill>
            <a:srgbClr val="ff6b6b"/>
          </a:solidFill>
          <a:ln w="0">
            <a:noFill/>
          </a:ln>
          <a:effectLst>
            <a:outerShdw dist="17819" dir="2700000" blurRad="0" rotWithShape="0">
              <a:srgbClr val="99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scrib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6934320" y="2362320"/>
            <a:ext cx="1676160" cy="685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9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5410080" y="2362320"/>
            <a:ext cx="1524240" cy="68580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networ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for pa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 + lab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ails will be determined during April, depending on student background and prog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9:59:35Z</dcterms:created>
  <dc:creator>Tanel Tammet</dc:creator>
  <dc:description/>
  <dc:language>en-US</dc:language>
  <cp:lastModifiedBy>Tanel Tammet</cp:lastModifiedBy>
  <dcterms:modified xsi:type="dcterms:W3CDTF">2008-04-04T11:50:36Z</dcterms:modified>
  <cp:revision>103</cp:revision>
  <dc:subject/>
  <dc:title>Networking protocols</dc:title>
</cp:coreProperties>
</file>